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F462-0EDF-40E5-BDF7-653853A9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AEF5-87A2-4005-9A63-BE3AEEFB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D70B-C99C-4ECA-B912-9E760C63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228F-A644-487D-8C7F-FCE84DA2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EA95-6804-497B-8BFD-2208CE84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2F18-D790-46CA-9EEA-3C286789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A7FF-6963-4779-BEEE-6A4B3D56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E866-6AB3-4D5D-85B3-2B36F381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2CBE-6BEC-4D1C-8B80-BEF72ED5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FEF8-8344-453A-B695-9FBD1DF1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05BC-68DE-4F3F-8C3E-35E715DF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5996-F8CB-48BE-BD98-1B16D730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2B91-FBA7-4757-A634-98628AC6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2415-3D42-42FC-872C-8096F547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E290-E997-49CB-A9E1-11417F63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E408-712C-4D92-BED9-4146506A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27D0-3E85-4178-B72D-48CE322F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46F4-1E65-4AE5-ADDE-CDAC028C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02F4-934D-48A3-B8F0-94E2ABD8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9BCB-CD76-4B26-98D6-47689561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B057-5333-4EFE-98FE-D2844377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3073-0A02-41AB-9D91-C361320D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DF3D-1CE4-407B-AD34-AC2AAC2D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7586-1692-463E-B179-224CE627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9144000" cy="190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3214-C360-4FE7-B98E-7253C6623289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0" y="0"/>
              <a:ext cx="9144000" cy="380988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B1CA-C7B3-4E7E-8476-F2FFB2FC8A40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Your Worst </a:t>
            </a: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Nightmare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The letter should include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6480" y="1828800"/>
            <a:ext cx="734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An introduction and explanation of the probl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Your method of solving the problem (chart, table, maths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A good explanation of what happened to the secre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266480" y="1828800"/>
            <a:ext cx="4295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uppose at 8:00am, you told your best friend a secret.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" name="Object 11"/>
          <p:cNvGraphicFramePr/>
          <p:nvPr/>
        </p:nvGraphicFramePr>
        <p:xfrm>
          <a:off x="5418000" y="2027160"/>
          <a:ext cx="265932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8000" y="2027160"/>
                    <a:ext cx="265932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266480" y="1828440"/>
            <a:ext cx="4219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hen, your best friend told two other friends that secret within ten minute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5" name="Object 7"/>
          <p:cNvGraphicFramePr/>
          <p:nvPr/>
        </p:nvGraphicFramePr>
        <p:xfrm>
          <a:off x="5538960" y="2057400"/>
          <a:ext cx="269064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38960" y="2057400"/>
                    <a:ext cx="26906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266480" y="1828800"/>
            <a:ext cx="38098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hen those two each told two others in ten minute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8" name="Object 5"/>
          <p:cNvGraphicFramePr/>
          <p:nvPr/>
        </p:nvGraphicFramePr>
        <p:xfrm>
          <a:off x="5910120" y="2057400"/>
          <a:ext cx="138132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10120" y="2057400"/>
                    <a:ext cx="13813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6"/>
          <p:cNvGraphicFramePr/>
          <p:nvPr/>
        </p:nvGraphicFramePr>
        <p:xfrm>
          <a:off x="5934240" y="3657600"/>
          <a:ext cx="138096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34240" y="3657600"/>
                    <a:ext cx="13809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219320" y="1828440"/>
            <a:ext cx="7162560" cy="32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his continued all morning              with every new       person only              telling two               others every ten minute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Object 4" descr=""/>
          <p:cNvPicPr/>
          <p:nvPr/>
        </p:nvPicPr>
        <p:blipFill>
          <a:blip r:embed="rId1"/>
          <a:stretch/>
        </p:blipFill>
        <p:spPr>
          <a:xfrm>
            <a:off x="5389560" y="2590920"/>
            <a:ext cx="20779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67040" y="2383920"/>
            <a:ext cx="396396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1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How many people would know your secret by 12 noo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Object 16"/>
          <p:cNvGraphicFramePr/>
          <p:nvPr/>
        </p:nvGraphicFramePr>
        <p:xfrm>
          <a:off x="2590920" y="2666880"/>
          <a:ext cx="13795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666880"/>
                    <a:ext cx="13795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67040" y="2384280"/>
            <a:ext cx="3963960" cy="33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How many people would know your secret by 12 noo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3116160" y="2514600"/>
          <a:ext cx="1379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6160" y="2514600"/>
                    <a:ext cx="1379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4"/>
          <p:cNvGraphicFramePr/>
          <p:nvPr/>
        </p:nvGraphicFramePr>
        <p:xfrm>
          <a:off x="1736640" y="2514600"/>
          <a:ext cx="1379520" cy="15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6640" y="2514600"/>
                    <a:ext cx="1379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5"/>
          <p:cNvGraphicFramePr/>
          <p:nvPr/>
        </p:nvGraphicFramePr>
        <p:xfrm>
          <a:off x="2583000" y="4038480"/>
          <a:ext cx="1379520" cy="152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83000" y="4038480"/>
                    <a:ext cx="13795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67040" y="2384280"/>
            <a:ext cx="3963960" cy="32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How many people would know your secret by 12 noo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3268800" y="1600200"/>
          <a:ext cx="1379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8800" y="1600200"/>
                    <a:ext cx="1379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5"/>
          <p:cNvGraphicFramePr/>
          <p:nvPr/>
        </p:nvGraphicFramePr>
        <p:xfrm>
          <a:off x="906480" y="1828800"/>
          <a:ext cx="1379520" cy="15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6480" y="1828800"/>
                    <a:ext cx="1379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6"/>
          <p:cNvGraphicFramePr/>
          <p:nvPr/>
        </p:nvGraphicFramePr>
        <p:xfrm>
          <a:off x="2354400" y="4191120"/>
          <a:ext cx="137952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54400" y="4191120"/>
                    <a:ext cx="1379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7"/>
          <p:cNvGraphicFramePr/>
          <p:nvPr/>
        </p:nvGraphicFramePr>
        <p:xfrm>
          <a:off x="3268800" y="4572000"/>
          <a:ext cx="1379520" cy="152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68800" y="4572000"/>
                    <a:ext cx="1379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8"/>
          <p:cNvGraphicFramePr/>
          <p:nvPr/>
        </p:nvGraphicFramePr>
        <p:xfrm>
          <a:off x="1287360" y="4648320"/>
          <a:ext cx="1379520" cy="1523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87360" y="4648320"/>
                    <a:ext cx="1379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0"/>
          <p:cNvGraphicFramePr/>
          <p:nvPr/>
        </p:nvGraphicFramePr>
        <p:xfrm>
          <a:off x="2278080" y="2666880"/>
          <a:ext cx="1379520" cy="152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78080" y="2666880"/>
                    <a:ext cx="13795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11"/>
          <p:cNvGraphicFramePr/>
          <p:nvPr/>
        </p:nvGraphicFramePr>
        <p:xfrm>
          <a:off x="3192480" y="3048120"/>
          <a:ext cx="1379520" cy="1523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8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92480" y="3048120"/>
                    <a:ext cx="1379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12"/>
          <p:cNvGraphicFramePr/>
          <p:nvPr/>
        </p:nvGraphicFramePr>
        <p:xfrm>
          <a:off x="1211400" y="3124080"/>
          <a:ext cx="1379520" cy="1524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0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11400" y="3124080"/>
                    <a:ext cx="13795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3"/>
          <p:cNvGraphicFramePr/>
          <p:nvPr/>
        </p:nvGraphicFramePr>
        <p:xfrm>
          <a:off x="2201760" y="1447920"/>
          <a:ext cx="1379520" cy="1523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2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01760" y="1447920"/>
                    <a:ext cx="1379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295280" y="2209680"/>
            <a:ext cx="4114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Write a letter  to your friend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explaining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what happened to your secre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Object 4" descr=""/>
          <p:cNvPicPr/>
          <p:nvPr/>
        </p:nvPicPr>
        <p:blipFill>
          <a:blip r:embed="rId1"/>
          <a:stretch/>
        </p:blipFill>
        <p:spPr>
          <a:xfrm>
            <a:off x="4800600" y="1916280"/>
            <a:ext cx="3352680" cy="37494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5410080" y="2335320"/>
            <a:ext cx="2743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r Frien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irty rat!  Remember when I told you that secret?  Well it isn’t one anymor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8T04:10:22Z</dcterms:created>
  <dc:creator>C.U.S.D.</dc:creator>
  <dc:description/>
  <dc:language>en-US</dc:language>
  <cp:lastModifiedBy>Carol Moule</cp:lastModifiedBy>
  <dcterms:modified xsi:type="dcterms:W3CDTF">2010-08-13T12:17:45Z</dcterms:modified>
  <cp:revision>13</cp:revision>
  <dc:subject/>
  <dc:title>Your Worst Nightmare</dc:title>
</cp:coreProperties>
</file>